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8CF-13AF-4554-8706-F3EBF4EC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4C5-7FFB-40B7-8EC0-78F7659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706-2B38-4BA5-9C14-2B2115F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672-FED0-4C96-B6B9-6033011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8BB-C5E8-4556-BD8A-99B1281E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7C9-12C8-416E-B454-3A33772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EFD-54FA-46A6-845F-52F1106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712-BBF5-4C42-82D8-CD73E43B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D48-5748-4BCF-A841-43C2C03A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957-8738-40BD-A00F-3512AA4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F80-32ED-4A27-8590-D198C52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9C9-04C8-419D-9028-99A0DA8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573-286C-4C48-82CD-937DF14A458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rtl8192CU_linux_v2.0.1042.20100902.tar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0-09-02T09:08:56Z</dcterms:modified>
  <cp:revision>105</cp:revision>
  <dc:subject/>
  <dc:title>投影片 1</dc:title>
</cp:coreProperties>
</file>